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277-2301-4492-8079-FEAF6A46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73A-AB89-4620-AA61-1F7DF1D4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00B-2C1E-44C2-B686-86884633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BB7-B7B5-4A58-B853-BD826766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BFF3-C354-495B-868D-1A1BA1BE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5071-8618-47E8-AACF-9830E64D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C9E1-1968-4379-8463-F85D4BDE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6F75-336A-47B4-AC31-C0BC02A0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9EFC-9830-4AE5-8C3D-E28C29F9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275E-1AF6-49CF-BD45-0806F1CB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5DCA-3E3F-4FFF-AA9E-832604BA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98B-AC49-4AD3-B2F1-F0D3421B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0391-0C4F-4DCC-8EFE-4DAE0D4D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B40B-7411-4AB0-AB2A-9C8E11D3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11F6-5492-49E4-B21E-200A6297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1D1E-A436-4280-B655-CDB84693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6A35-BFC9-4124-B8D4-F719A305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B5E-C714-4090-961E-90B825A7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272-DDAB-4413-9E2C-DC1E0BFC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896-6F73-41E7-8E8B-3F16948E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C5F-3BA5-438E-B85B-EF22ED7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D3D-40D9-4496-B168-D003271C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793-2C45-45E5-95B0-9F3474C4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BA9-655B-495C-B4E9-54C5DFC3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A532-EAB8-4B03-9363-07DDC5612E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B561-CADC-40C9-B2FD-399C1B0786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5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BLICZANIE POLA POWIERZCHNI PROSTOPADŁOŚCIA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OBLICZYĆ POLE POWIERZCHNI PROSTOPADŁOŚCIAN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920" y="1314000"/>
            <a:ext cx="736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licz pole powierzchni prostopadłościanu o wymiarach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 5 cm, 4 cm, 6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57360" y="1719360"/>
          <a:ext cx="392112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1719360"/>
                    <a:ext cx="39211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422360" y="1763640"/>
          <a:ext cx="6191280" cy="491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2360" y="1763640"/>
                    <a:ext cx="6191280" cy="49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OBLICZYĆ POLE POWIERZCHNI PROSTOPADŁOŚCIAN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74160" y="4344840"/>
            <a:ext cx="439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stały nam następujące prostoką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I i VI o wymiarach 5 cm i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II i IV o wymiarach 6 cm i 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III i V o wymiarach 6 cm i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225440"/>
          <a:ext cx="526572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225440"/>
                    <a:ext cx="52657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OBLICZYĆ POLE POWIERZCHNI PROSTOPADŁOŚCIAN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05640" y="1088640"/>
            <a:ext cx="29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liczamy pola prostokątó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6640" y="1447560"/>
            <a:ext cx="765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P = 5 cm · 4 c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2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nieważ mamy dwa prostokąty o tych samych wymiarach to wynik mnożymy przez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 ścian I i VI = 2 · 2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e ścian I i VI = 40 c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6640" y="2662200"/>
            <a:ext cx="765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P = 6 cm • 5 c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3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nieważ mamy dwa prostokąty o tych samych wymiarach to wynik mnożymy przez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 ścian II i IV = 2 • 3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e ścian II i IV = 60 c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6640" y="3831840"/>
            <a:ext cx="765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P = 6 cm • 4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24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nieważ mamy dwa prostokąty o tych samych wymiarach to wynik mnożymy przez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 ścian III i V = 2 • 24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e ścian III i V = 48 c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280" y="5712840"/>
            <a:ext cx="87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le ścian I i VI + pole ścian II i IV + pole ścian III i V = 40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60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48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le ścian I i VI + pole ścian II i IV + pole ścian III i V = 148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46280" y="509436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czamy sumę pól prostoką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6640" y="1942560"/>
            <a:ext cx="738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ole powierzchni całkowitej prostopadłościanu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suma pól wszystkich ścian prostopadłościa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520" y="1672200"/>
            <a:ext cx="780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licz pole powierzchni ścian bocznych prostopadłościa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cz pole powierzchni podstaw prostopadłościa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01:27Z</dcterms:modified>
  <cp:revision>104</cp:revision>
  <dc:subject/>
  <dc:title>Slajd 1</dc:title>
</cp:coreProperties>
</file>